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FDA-D075-4536-9FBC-2E67A268C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10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81DB-9FF1-456E-AB0C-AA8238C312A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10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092-A7D5-4666-94C8-685AEAC7C70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10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6131-6C40-4A26-BD22-06EC9AB440A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532-7952-498C-9542-4F1D9307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58B-0864-47C3-B923-0A57764D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498-F928-4C4C-B38A-A46783BB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BA9-9CDD-45ED-864F-A2E0991F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D6BA-78C9-416D-AB6B-745EECB2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3CE-ECBC-4545-B609-6B60C4C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76A-DFB0-4C9B-9A11-126A2D6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6B0F-2F85-44A2-8A0E-A62C9AFE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B65-72E1-49D7-9983-9C9F3201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3168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1D34-DC9F-41F8-824A-D1EED64A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F80-736E-4003-83C7-98A345E3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984-EAAC-49F1-BA4D-18889EE9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070-68BA-4779-B2EC-B66956C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4656-F0DB-4778-89FB-B6161FA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4D8-5B75-477E-91F1-3896058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26D-CA5C-4898-83FD-242FF285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EFB9-BA4B-4084-ABF8-709C34C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4C2-097A-46FB-8996-73976AF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05D-87C8-459E-B6A5-E50DB9B8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F63-6FD5-4521-8B23-C5401F6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3168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30D-F816-4782-B76B-2529734D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124-00A6-4C4F-B98A-1F9A99C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DE6-70E3-447D-B94F-18CD783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2C8-9CE6-41C9-9EFD-AD9014C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7"/>
          <p:cNvGrpSpPr/>
          <p:nvPr/>
        </p:nvGrpSpPr>
        <p:grpSpPr>
          <a:xfrm>
            <a:off x="-360" y="228600"/>
            <a:ext cx="1676520" cy="773280"/>
            <a:chOff x="-360" y="228600"/>
            <a:chExt cx="1676520" cy="773280"/>
          </a:xfrm>
        </p:grpSpPr>
        <p:sp>
          <p:nvSpPr>
            <p:cNvPr id="1" name="Freeform 28"/>
            <p:cNvSpPr/>
            <p:nvPr/>
          </p:nvSpPr>
          <p:spPr>
            <a:xfrm rot="10800000">
              <a:off x="1380600" y="439920"/>
              <a:ext cx="243000" cy="24444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Freeform 29"/>
            <p:cNvSpPr/>
            <p:nvPr/>
          </p:nvSpPr>
          <p:spPr>
            <a:xfrm rot="10800000">
              <a:off x="1079280" y="719280"/>
              <a:ext cx="169560" cy="169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Freeform 30"/>
            <p:cNvSpPr/>
            <p:nvPr/>
          </p:nvSpPr>
          <p:spPr>
            <a:xfrm rot="10800000">
              <a:off x="709200" y="866880"/>
              <a:ext cx="122400" cy="123840"/>
            </a:xfrm>
            <a:prstGeom prst="pie">
              <a:avLst/>
            </a:prstGeom>
            <a:solidFill>
              <a:srgbClr val="ffcc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Freeform 31"/>
            <p:cNvSpPr/>
            <p:nvPr/>
          </p:nvSpPr>
          <p:spPr>
            <a:xfrm rot="10800000">
              <a:off x="285480" y="914400"/>
              <a:ext cx="889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Rectangle 32"/>
            <p:cNvSpPr/>
            <p:nvPr/>
          </p:nvSpPr>
          <p:spPr>
            <a:xfrm rot="10800000">
              <a:off x="-360" y="228240"/>
              <a:ext cx="1676520" cy="115920"/>
            </a:xfrm>
            <a:prstGeom prst="rect">
              <a:avLst/>
            </a:prstGeom>
            <a:solidFill>
              <a:srgbClr val="0099cc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986-BED9-465C-9C35-A08D7B2DE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Freeform 9"/>
          <p:cNvSpPr/>
          <p:nvPr/>
        </p:nvSpPr>
        <p:spPr>
          <a:xfrm>
            <a:off x="914400" y="561960"/>
            <a:ext cx="152280" cy="1066680"/>
          </a:xfrm>
          <a:prstGeom prst="pie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" name="Group 19"/>
          <p:cNvGrpSpPr/>
          <p:nvPr/>
        </p:nvGrpSpPr>
        <p:grpSpPr>
          <a:xfrm>
            <a:off x="7467480" y="5856120"/>
            <a:ext cx="1676520" cy="773280"/>
            <a:chOff x="7467480" y="5856120"/>
            <a:chExt cx="1676520" cy="773280"/>
          </a:xfrm>
        </p:grpSpPr>
        <p:sp>
          <p:nvSpPr>
            <p:cNvPr id="16" name="Freeform 14"/>
            <p:cNvSpPr/>
            <p:nvPr/>
          </p:nvSpPr>
          <p:spPr>
            <a:xfrm>
              <a:off x="7520040" y="6173640"/>
              <a:ext cx="243000" cy="24444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" name="Freeform 15"/>
            <p:cNvSpPr/>
            <p:nvPr/>
          </p:nvSpPr>
          <p:spPr>
            <a:xfrm>
              <a:off x="7894800" y="5968800"/>
              <a:ext cx="169560" cy="169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" name="Freeform 16"/>
            <p:cNvSpPr/>
            <p:nvPr/>
          </p:nvSpPr>
          <p:spPr>
            <a:xfrm>
              <a:off x="8312040" y="5867280"/>
              <a:ext cx="122400" cy="123840"/>
            </a:xfrm>
            <a:prstGeom prst="pie">
              <a:avLst/>
            </a:prstGeom>
            <a:solidFill>
              <a:srgbClr val="ffcc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Freeform 17"/>
            <p:cNvSpPr/>
            <p:nvPr/>
          </p:nvSpPr>
          <p:spPr>
            <a:xfrm>
              <a:off x="8769240" y="5856120"/>
              <a:ext cx="889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" name="Rectangle 18"/>
            <p:cNvSpPr/>
            <p:nvPr/>
          </p:nvSpPr>
          <p:spPr>
            <a:xfrm>
              <a:off x="7467480" y="6513480"/>
              <a:ext cx="1676520" cy="115920"/>
            </a:xfrm>
            <a:prstGeom prst="rect">
              <a:avLst/>
            </a:prstGeom>
            <a:solidFill>
              <a:srgbClr val="0099cc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7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609480" y="1523880"/>
            <a:ext cx="228600" cy="144936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7848720" y="1209600"/>
            <a:ext cx="261720" cy="1371600"/>
          </a:xfrm>
          <a:prstGeom prst="pi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6248520" y="5410080"/>
            <a:ext cx="2895120" cy="1323720"/>
            <a:chOff x="6248520" y="5410080"/>
            <a:chExt cx="2895120" cy="1323720"/>
          </a:xfrm>
        </p:grpSpPr>
        <p:sp>
          <p:nvSpPr>
            <p:cNvPr id="63" name="Freeform 14"/>
            <p:cNvSpPr/>
            <p:nvPr/>
          </p:nvSpPr>
          <p:spPr>
            <a:xfrm>
              <a:off x="6339240" y="5953320"/>
              <a:ext cx="419400" cy="41832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6986160" y="5602680"/>
              <a:ext cx="292680" cy="29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7706880" y="5429160"/>
              <a:ext cx="211320" cy="211680"/>
            </a:xfrm>
            <a:prstGeom prst="pie">
              <a:avLst/>
            </a:prstGeom>
            <a:solidFill>
              <a:srgbClr val="ffcc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496360" y="5410080"/>
              <a:ext cx="153360" cy="14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248520" y="6535440"/>
              <a:ext cx="2895120" cy="198360"/>
            </a:xfrm>
            <a:prstGeom prst="rect">
              <a:avLst/>
            </a:prstGeom>
            <a:solidFill>
              <a:srgbClr val="0099cc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8" name="Group 19"/>
          <p:cNvGrpSpPr/>
          <p:nvPr/>
        </p:nvGrpSpPr>
        <p:grpSpPr>
          <a:xfrm>
            <a:off x="-360" y="217440"/>
            <a:ext cx="1676520" cy="773280"/>
            <a:chOff x="-360" y="217440"/>
            <a:chExt cx="1676520" cy="773280"/>
          </a:xfrm>
        </p:grpSpPr>
        <p:sp>
          <p:nvSpPr>
            <p:cNvPr id="69" name="Freeform 20"/>
            <p:cNvSpPr/>
            <p:nvPr/>
          </p:nvSpPr>
          <p:spPr>
            <a:xfrm rot="10800000">
              <a:off x="1380600" y="428760"/>
              <a:ext cx="243000" cy="24444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 rot="10800000">
              <a:off x="1079280" y="708120"/>
              <a:ext cx="169560" cy="169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 rot="10800000">
              <a:off x="709200" y="855720"/>
              <a:ext cx="122400" cy="123840"/>
            </a:xfrm>
            <a:prstGeom prst="pie">
              <a:avLst/>
            </a:prstGeom>
            <a:solidFill>
              <a:srgbClr val="ffcc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 rot="10800000">
              <a:off x="285480" y="903240"/>
              <a:ext cx="889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Rectangle 24"/>
            <p:cNvSpPr/>
            <p:nvPr/>
          </p:nvSpPr>
          <p:spPr>
            <a:xfrm rot="10800000">
              <a:off x="-360" y="217080"/>
              <a:ext cx="1676520" cy="115920"/>
            </a:xfrm>
            <a:prstGeom prst="rect">
              <a:avLst/>
            </a:prstGeom>
            <a:solidFill>
              <a:srgbClr val="0099cc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8234-1B2F-4FAB-BC3E-B786EF4F16F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entury Gothic"/>
              </a:rPr>
              <a:t>The Art of Interview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  <p:pic>
        <p:nvPicPr>
          <p:cNvPr id="124" name="Picture 5" descr="New Logo"/>
          <p:cNvPicPr/>
          <p:nvPr/>
        </p:nvPicPr>
        <p:blipFill>
          <a:blip r:embed="rId1"/>
          <a:stretch/>
        </p:blipFill>
        <p:spPr>
          <a:xfrm>
            <a:off x="2514600" y="3063960"/>
            <a:ext cx="3581280" cy="3031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76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 Sample – Dissected!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Question: </a:t>
            </a:r>
            <a:r>
              <a:rPr b="1" lang="en-US" sz="2400" spc="-1" strike="noStrike">
                <a:solidFill>
                  <a:srgbClr val="f8f8f8"/>
                </a:solidFill>
                <a:latin typeface="Century Gothic"/>
              </a:rPr>
              <a:t>What makes you the ideal candidate for this position?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entury Gothic"/>
                <a:ea typeface="Arial"/>
              </a:rPr>
              <a:t>MENTION YOUR STRONGEST QUALIFICATIONS (Draw connections to the position for the employer)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Times New Roman"/>
              </a:rPr>
              <a:t>My international experience in addition to my position at the Technician as the Director of Advertising makes me an ideal candidate because I offer a global perspective as well a broad range of skills applicable to public relations.  I am also very excited about the position and confident in my abilities to excel in it.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”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Behavior Based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Tell me about a time…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Describe for me a situation when…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Give an example of…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Century Gothic"/>
              </a:rPr>
              <a:t>Your Goal: To illustrate for the interviewer that you have applied relevant skills in real situations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Tell me about a time when you came up with a creative solution to a problem you were facing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Describe a situation where you had to let down a customer in order to uphold company policy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Have you experienced a failure when organizing a program, and how did you deal with it?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at is the hardest decision you have ever had to mak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nswering the Weakness 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Make it </a:t>
            </a:r>
            <a:r>
              <a:rPr b="0" lang="en-US" sz="2800" spc="-1" strike="noStrike">
                <a:solidFill>
                  <a:srgbClr val="ffcc00"/>
                </a:solidFill>
                <a:latin typeface="Century Gothic"/>
              </a:rPr>
              <a:t>skill based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rather than behavior based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Century Gothic"/>
              </a:rPr>
              <a:t>I don’t feel my publishing skills are as strong as they could be.</a:t>
            </a: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Do not disguise a strength as a weakness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Beware of “canned” responses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Century Gothic"/>
              </a:rPr>
              <a:t>I am a perfectionist.</a:t>
            </a: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5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Close by telling them how you plan to compensate.</a:t>
            </a:r>
            <a:r>
              <a:rPr b="0" lang="en-US" sz="3000" spc="-1" strike="noStrike">
                <a:solidFill>
                  <a:srgbClr val="f8f8f8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Century Gothic"/>
              </a:rPr>
              <a:t>Since that experience last semester, I have tried really hard to find a better balance between close attention to detail and keeping sight of the big picture.</a:t>
            </a: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 Sample – Dissected!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Century Gothic"/>
                <a:ea typeface="Arial"/>
              </a:rPr>
              <a:t>Question: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  <a:ea typeface="Arial"/>
              </a:rPr>
              <a:t>  </a:t>
            </a:r>
            <a:r>
              <a:rPr b="1" i="1" lang="en-US" sz="2800" spc="-1" strike="noStrike">
                <a:solidFill>
                  <a:srgbClr val="f8f8f8"/>
                </a:solidFill>
                <a:latin typeface="Century Gothic"/>
              </a:rPr>
              <a:t>What are your weaknesses?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</a:t>
            </a:r>
            <a:r>
              <a:rPr b="0" lang="en-US" sz="37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endParaRPr b="0" lang="en-US" sz="37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entury Gothic"/>
                <a:ea typeface="Arial"/>
              </a:rPr>
              <a:t>SKILL BASED WEAKNESS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  <a:ea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My technical skills are a weakness.  I recognized it last year when I tried to put together a website for Alpha Zeta.”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entury Gothic"/>
              </a:rPr>
              <a:t>HOW YOU COMPENSATE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Since then, I have taken several of the free computer courses offered at my school and have increased my knowledge of programs like Dreamweaver, which I am excited about.”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8f8f8"/>
                </a:solidFill>
                <a:latin typeface="Century Gothic"/>
              </a:rPr>
              <a:t>	</a:t>
            </a:r>
            <a:endParaRPr b="0" lang="en-US" sz="37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99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ase Study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Case study presents “what would you do if…”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How would you react in given scenario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No right or wrong answers – but, there are better and worse answers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Explain your thought process and support answers with examples when possible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26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Century Gothic"/>
              </a:rPr>
              <a:t>How would you deal with an irate client?</a:t>
            </a:r>
            <a:endParaRPr b="0" lang="en-US" sz="29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26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Century Gothic"/>
              </a:rPr>
              <a:t>Give an example of the best way to sell a purse to a man.</a:t>
            </a:r>
            <a:endParaRPr b="0" lang="en-US" sz="29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26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Century Gothic"/>
              </a:rPr>
              <a:t>What would you do if one of the children you were watching threw a fit in the grocery store because they wanted some candy?</a:t>
            </a:r>
            <a:endParaRPr b="0" lang="en-US" sz="29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26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Century Gothic"/>
              </a:rPr>
              <a:t>How would you confront a fellow employee who you knew was misusing company equipment for their own private use?</a:t>
            </a:r>
            <a:endParaRPr b="0" lang="en-US" sz="29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26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Century Gothic"/>
              </a:rPr>
              <a:t>Sell me this calculator on my desk.</a:t>
            </a:r>
            <a:endParaRPr b="0" lang="en-US" sz="29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 Sample Dissected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Century Gothic"/>
              </a:rPr>
              <a:t>Question:</a:t>
            </a:r>
            <a:r>
              <a:rPr b="1" i="1" lang="en-US" sz="2800" spc="-1" strike="noStrike">
                <a:solidFill>
                  <a:srgbClr val="f8f8f8"/>
                </a:solidFill>
                <a:latin typeface="Century Gothic"/>
              </a:rPr>
              <a:t> How would you deal with an irate client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First, I would try to calm the client down by assuring them that their needs are very important to the company.  Then, I would listen to what their problem was and work with them to decide upon a mutually agreeable resolution.  If the client continued to be upset and I knew that I would not be able to resolve the problem, I would have him talk to the manager.”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157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ff-the-wall Questions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Employers may ask to: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Measure creativity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atch for reactions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Evaluate problem-solving and analytical skills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Monitor ability to think quickly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99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  <a:ea typeface="Times New Roman"/>
              </a:rPr>
              <a:t>If you could be a cartoon character, who would you be and why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ich fruit does your personality most resembl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f you had to describe yourself as an animal, what animal would you b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How many street signs are in a four block radius of the NCSU campus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f you could be anyone from history, who would you b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he Art of Interview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Evaluate Yourself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Prepare today!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Types of Interview Questions &amp; Dissecting Effective Response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General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Behavioral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Case Study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Off-the-wall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Handling Illegal Question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99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 Sample Dissected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i="1" lang="en-US" sz="3200" spc="-1" strike="noStrike">
                <a:solidFill>
                  <a:srgbClr val="f8f8f8"/>
                </a:solidFill>
                <a:latin typeface="Century Gothic"/>
              </a:rPr>
              <a:t>Question:</a:t>
            </a:r>
            <a:r>
              <a:rPr b="1" i="1" lang="en-US" sz="3200" spc="-1" strike="noStrike">
                <a:solidFill>
                  <a:srgbClr val="f8f8f8"/>
                </a:solidFill>
                <a:latin typeface="Century Gothic"/>
              </a:rPr>
              <a:t> If you were a cartoon character, who would you be and why?</a:t>
            </a: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Bugs Bunny- because he always likes a challenge, never loses his sense of humor and always ends up on his feet.”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Questions To Ask Employer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entury Gothic"/>
              </a:rPr>
              <a:t>Why Ask Questions???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-411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A lack of questions may be mistaken as a </a:t>
            </a:r>
            <a:r>
              <a:rPr b="0" lang="en-US" sz="2400" spc="-1" strike="noStrike">
                <a:solidFill>
                  <a:srgbClr val="ffcc00"/>
                </a:solidFill>
                <a:latin typeface="Century Gothic"/>
              </a:rPr>
              <a:t>lack of interest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-411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To gain more information about the position/organization for yourself.  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</a:rPr>
              <a:t>Remember-  it’s a </a:t>
            </a:r>
            <a:r>
              <a:rPr b="0" i="1" lang="en-US" sz="2400" spc="-1" strike="noStrike">
                <a:solidFill>
                  <a:srgbClr val="ffcc00"/>
                </a:solidFill>
                <a:latin typeface="Century Gothic"/>
              </a:rPr>
              <a:t>mutual exchange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</a:rPr>
              <a:t> of information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entury Gothic"/>
              </a:rPr>
              <a:t>Questions to Ask!!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-411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Ones that are not readily answered through company literature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-411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Questions based on your conversation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-411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Questions that demonstrate your knowledge of the company and field/industry.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1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6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Why do you like working for this organization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Does your company value professional development among employees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Would you describe a typical day’s activities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What are your department’s major projects in the upcoming year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I know that you’ve recently experienced a period of very rapid growth.  How has that changed the ways you operate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64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Century Gothic"/>
              </a:rPr>
              <a:t>What is the next step in the search to fill this position?</a:t>
            </a: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fter the Interview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end personal thank you notes to all interviewers via mail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Keep records in notebook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79840" indent="-434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mportant dates, good or bad experience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Stay in pursuit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79840" indent="-434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Follow-up with a phone call to review status of employee selection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23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Illegal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Birthplace, nationality, ancestry, or descent of applicant, applicant’s spouse, or parent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Your last name, Monet, is that French?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Applicant’s sex or marital statu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Race or color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Religion or religious days observed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Physical disabilities or handicap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Pregnancy, birth control, and child care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Number of dependent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7680" y="7632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s of Illegal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Are you married?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Do you have any children?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Do you have any disabilities?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Have you ever been arrested?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How did your parent’s divorce affect you?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w to Handle Illegal Questio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17720" y="2190600"/>
            <a:ext cx="75261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You have the following choices: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Answer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Reply to the underlying concern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nquire about questions relevance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Change the subject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End the interview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entury Gothic"/>
              </a:rPr>
              <a:t>Thought for the Da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Before everything else, “Getting Ready” is the secret of success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                          </a:t>
            </a:r>
            <a:r>
              <a:rPr b="0" i="1" lang="en-US" sz="2400" spc="-1" strike="noStrike">
                <a:solidFill>
                  <a:srgbClr val="f8f8f8"/>
                </a:solidFill>
                <a:latin typeface="Century Gothic"/>
              </a:rPr>
              <a:t>Henry Ford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repare for the Interview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Know Yourself.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cision Making Worksheet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Know the position you are applying for – research the employer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Know the company listing the position – prepare a list of questions.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Practice!  Practice!  Practice!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6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valuate Yourself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  <a:ea typeface="Arial"/>
              </a:rPr>
              <a:t>Non-Verbal Communication</a:t>
            </a:r>
            <a:r>
              <a:rPr b="0" i="1" lang="en-US" sz="2800" spc="-1" strike="noStrike">
                <a:solidFill>
                  <a:srgbClr val="ffcc00"/>
                </a:solidFill>
                <a:latin typeface="Century Gothic"/>
                <a:ea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Handshake, posture, eye contact, friendliness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  <a:ea typeface="Arial"/>
              </a:rPr>
              <a:t>Verbal Communication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Grammar, diction, limited use of non-words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  <a:ea typeface="Arial"/>
              </a:rPr>
              <a:t>Ability to Answer Questions</a:t>
            </a:r>
            <a:r>
              <a:rPr b="0" i="1" lang="en-US" sz="2800" spc="-1" strike="noStrike">
                <a:solidFill>
                  <a:srgbClr val="f8f8f8"/>
                </a:solidFill>
                <a:latin typeface="Century Gothic"/>
                <a:ea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Arial"/>
              </a:rPr>
              <a:t>Preparedness, responsiveness, confidence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  <a:ea typeface="Times New Roman"/>
              </a:rPr>
              <a:t>Provide Relevant Examples</a:t>
            </a:r>
            <a:r>
              <a:rPr b="0" i="1" lang="en-US" sz="2800" spc="-1" strike="noStrike">
                <a:solidFill>
                  <a:srgbClr val="f8f8f8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Century Gothic"/>
                <a:ea typeface="Times New Roman"/>
              </a:rPr>
              <a:t>Illustrate qualifications through relevant experiences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30 Second Impression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Dress Professionally      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Tip Sheet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90% of the way you communicate with other people is through body language (gestures, expressions, etc.)                  </a:t>
            </a:r>
            <a:endParaRPr b="0" lang="en-US" sz="32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entury Gothic"/>
              </a:rPr>
              <a:t>                                         </a:t>
            </a:r>
            <a:r>
              <a:rPr b="0" lang="en-US" sz="2000" spc="-1" strike="noStrike">
                <a:solidFill>
                  <a:srgbClr val="f8f8f8"/>
                </a:solidFill>
                <a:latin typeface="Century Gothic"/>
              </a:rPr>
              <a:t>-From Marie Farquharson’s book Body Talk</a:t>
            </a: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Century Gothic"/>
            </a:endParaRPr>
          </a:p>
        </p:txBody>
      </p:sp>
      <p:pic>
        <p:nvPicPr>
          <p:cNvPr id="133" name="Picture 5" descr="expo in suit"/>
          <p:cNvPicPr/>
          <p:nvPr/>
        </p:nvPicPr>
        <p:blipFill>
          <a:blip r:embed="rId1"/>
          <a:stretch/>
        </p:blipFill>
        <p:spPr>
          <a:xfrm>
            <a:off x="990720" y="466740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no head"/>
          <p:cNvPicPr/>
          <p:nvPr/>
        </p:nvPicPr>
        <p:blipFill>
          <a:blip r:embed="rId2"/>
          <a:stretch/>
        </p:blipFill>
        <p:spPr>
          <a:xfrm>
            <a:off x="533520" y="4343400"/>
            <a:ext cx="982440" cy="1131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80840" y="6440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reparing to answer interview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entury Gothic"/>
              </a:rPr>
              <a:t>Know the . . . .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Company &amp; Field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Job Description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Yourself  (Skills, Values &amp; Interests) 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Resume (Experience)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ffcc00"/>
                </a:solidFill>
                <a:latin typeface="Century Gothic"/>
              </a:rPr>
              <a:t>Make connections for the employer between what they are seeking and what you can provide.  Scream, “I am the match you are looking for.”</a:t>
            </a:r>
            <a:endParaRPr b="0" lang="en-US" sz="3100" spc="-1" strike="noStrike">
              <a:solidFill>
                <a:srgbClr val="f8f8f8"/>
              </a:solidFill>
              <a:latin typeface="Century Gothic"/>
            </a:endParaRPr>
          </a:p>
          <a:p>
            <a:pPr lvl="1" marL="8888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99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IPS for Answering!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</a:rPr>
              <a:t>Create a Strategy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Project your image/professional profile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Utilize your experiences, skills, interests and values as a backdrop to answer the question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1" marL="835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Century Gothic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</a:rPr>
              <a:t>Provide specific examples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entury Gothic"/>
              </a:rPr>
              <a:t>STAR Acronym</a:t>
            </a:r>
            <a:endParaRPr b="0" lang="en-US" sz="2400" spc="-1" strike="noStrike">
              <a:solidFill>
                <a:srgbClr val="f8f8f8"/>
              </a:solidFill>
              <a:latin typeface="Century Gothic"/>
            </a:endParaRPr>
          </a:p>
          <a:p>
            <a:pPr lvl="2" marL="1216080" indent="-37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Century Gothic"/>
              </a:rPr>
              <a:t>Situation</a:t>
            </a:r>
            <a:endParaRPr b="0" lang="en-US" sz="2200" spc="-1" strike="noStrike">
              <a:solidFill>
                <a:srgbClr val="f8f8f8"/>
              </a:solidFill>
              <a:latin typeface="Century Gothic"/>
            </a:endParaRPr>
          </a:p>
          <a:p>
            <a:pPr lvl="2" marL="1216080" indent="-37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Century Gothic"/>
              </a:rPr>
              <a:t>Task</a:t>
            </a:r>
            <a:endParaRPr b="0" lang="en-US" sz="2200" spc="-1" strike="noStrike">
              <a:solidFill>
                <a:srgbClr val="f8f8f8"/>
              </a:solidFill>
              <a:latin typeface="Century Gothic"/>
            </a:endParaRPr>
          </a:p>
          <a:p>
            <a:pPr lvl="2" marL="1216080" indent="-37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Century Gothic"/>
              </a:rPr>
              <a:t>Action </a:t>
            </a:r>
            <a:endParaRPr b="0" lang="en-US" sz="2200" spc="-1" strike="noStrike">
              <a:solidFill>
                <a:srgbClr val="f8f8f8"/>
              </a:solidFill>
              <a:latin typeface="Century Gothic"/>
            </a:endParaRPr>
          </a:p>
          <a:p>
            <a:pPr lvl="2" marL="1216080" indent="-37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Century Gothic"/>
              </a:rPr>
              <a:t>Result  (Don’t forget this one)</a:t>
            </a:r>
            <a:endParaRPr b="0" lang="en-US" sz="2200" spc="-1" strike="noStrike">
              <a:solidFill>
                <a:srgbClr val="f8f8f8"/>
              </a:solidFill>
              <a:latin typeface="Century Gothic"/>
            </a:endParaRPr>
          </a:p>
          <a:p>
            <a:pPr lvl="2" marL="1216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8f8f8"/>
              </a:solidFill>
              <a:latin typeface="Century Gothic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entury Gothic"/>
              </a:rPr>
              <a:t>Convey your individuality and excitement!!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ell me about yourself.”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ntro question that appears very broad.  However,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Do not answer it in general terms (NO life story or irrelevant information)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Think of it as a </a:t>
            </a:r>
            <a:r>
              <a:rPr b="0" lang="en-US" sz="2800" spc="-1" strike="noStrike">
                <a:solidFill>
                  <a:srgbClr val="ffcc00"/>
                </a:solidFill>
                <a:latin typeface="Century Gothic"/>
              </a:rPr>
              <a:t>1 – 2 minute</a:t>
            </a: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 “commercial” of your personal highlights.  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Focus on skills, accomplishments and relevant experiences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MPORTANT: Mention why are you interested in the position/ field.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ther General Quest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at makes you the ideal candidate for this job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y did you choose this major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at do you know about our organization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How do you plan to contribute to the success of our work plac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What do you value most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How do you compensate for your lack of experience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entury Gothic"/>
              </a:rPr>
              <a:t>Is this really what you want to do?</a:t>
            </a:r>
            <a:endParaRPr b="0" lang="en-US" sz="2800" spc="-1" strike="noStrike">
              <a:solidFill>
                <a:srgbClr val="f8f8f8"/>
              </a:solidFill>
              <a:latin typeface="Century Gothic"/>
            </a:endParaRPr>
          </a:p>
        </p:txBody>
      </p:sp>
    </p:spTree>
  </p:cSld>
  <p:transition spd="med" advTm="1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57:22Z</dcterms:created>
  <dc:creator/>
  <dc:description/>
  <dc:language>en-US</dc:language>
  <cp:lastModifiedBy>Bright</cp:lastModifiedBy>
  <dcterms:modified xsi:type="dcterms:W3CDTF">2013-08-22T13:30:20Z</dcterms:modified>
  <cp:revision>58</cp:revision>
  <dc:subject/>
  <dc:title>Interview Questions</dc:title>
</cp:coreProperties>
</file>